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CF17-2AEA-4691-B3A7-FB8CBD48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1C3-F54E-4A78-9EB1-AD27DD8F3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23B6-43C8-44BB-B228-1882E4EF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B6C2-AFB3-474D-AC3A-D6E514AE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26C-ECDF-4338-A20D-7F692402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3B1F-8F3B-4CD1-919F-B2CF0CFF8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8EE-A889-4E6A-8688-E305C01B6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D62A-8787-479B-A303-9251915C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9C9C-15FE-4574-80E9-99AFAB72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96B6-2222-4074-A66B-77872FE87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B57F-65CA-4582-8EDB-A2996193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8195-B275-481E-B758-F376A0C6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D04E-FCCB-4CE9-8D92-6ABB33B1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4909-ABB6-4348-932F-CA0442E2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1694-B4D2-4987-83BC-41EBFF7A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5F09-3F8E-45AF-B478-FBCA37FD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C6CF-A2A8-4AE8-A108-37E7F036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A146-D164-46D4-8FCB-B73EBFC5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834D-12FA-485C-B9EA-F5CA5909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5C9B-F87A-49A5-A01E-F56C32D36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E79A-9BE9-4A6D-9272-DDE97B580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standing during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2D3-5983-4DD7-B69F-36478CDF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FC1-B04E-4773-A75B-70C1A15E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141-CE96-4C50-84DD-5B974BEA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EEE-C1FC-4369-A99A-4B25F2A1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explore how anticipating student difficulties can affect our lesson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446E-CC66-40B6-8566-C6B3B834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EAD0-665C-4EB7-AA96-0C7D10CD5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2FA9-02F9-4995-813D-0D3D04E7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E6C3-8185-465F-8FAE-F7183025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3309-E1BF-4496-81E5-E4DCD1D68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D2CA-E67B-4A4A-B3F1-26E1DFFD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B98-7E0E-4EDA-8F26-A6BC236D7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F03-0C5D-4E42-AEC2-9DDAAB06A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BD64-4EBE-4645-9806-31F86D5C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C24-A5BB-4370-8D3D-44AEE1DC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DC45-314A-49F9-AB2E-62BA873F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3EF-B575-4CA6-A675-E0864909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1A72-F906-4CF7-83BA-D5578B44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E1E-9A96-4BCD-A30C-8DA63828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F84C-1B7E-41B9-BB22-5F4BC57C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7E7D-159F-4055-BDB2-C1040861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EFA-05B1-4DD3-B5A5-3BC09DFD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6F8-4E7E-43F6-A363-183D19D6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E19A-71E6-42CF-9ED9-F5069EDA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CF6-9517-4D15-9583-0B9F510A3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A4BA-931B-42F5-862D-09A3B015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D97A-6F7A-441F-AF4A-7C1C31AB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723F-1964-49BA-B3EF-EB76E5239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BB5D-4646-48E5-9308-2DDC387A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DD4C-A9BB-43AF-BC5A-AEE5A1F4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FF6-E94E-4171-8A38-47D93C76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5E50-D56F-44ED-9F07-8645E225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687-86B8-45CB-87DD-CD17680B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8CAE-F703-4255-8F30-F06B7F9D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4A4-B67E-481E-B7E7-2D9A1F54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D03-21CE-4D24-8271-145464F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9DA-685D-4307-AD12-62AD8D48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0AD-5170-4403-8DA4-835D34E2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6F2-D976-4A77-9400-089054E3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A96A-4C15-4CC9-BD15-C7618BC6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C061-0A2F-4A62-A6B1-7103F77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0E3-2BF8-49B8-8D68-A52A081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8116-8FD1-4346-9B70-81F20868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104C-D2F4-4B4F-BED6-52BF8287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ACDC-27BD-44EA-A101-9B610A4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BD66-1820-4845-863A-96663F1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F16-8292-497D-ABBF-BB4A22D8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D537-8645-4F40-B323-A1BAD41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D72-4F14-47CE-8E9F-1AC2363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12AD-68F7-4810-A082-E9ADC5D0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A7C3-A8F4-4CE8-A51C-F660E685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37C-10C0-44C9-935E-558C26C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49D-6AB9-4F87-99B0-866F16D3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4B4-8CA8-4415-A2CA-48A83442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CA0-3BA1-43F1-8777-87A0836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14E-74C7-43C5-BB8C-741EB2FF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CC8-FFC1-468B-B264-5A68718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266-F208-402D-86EA-AB0300E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331-09F2-4BEC-A8A3-02CAFFA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66EC-5C5B-4463-8B82-DB86C20F10D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00B9-8C7A-4DC4-8DED-5279909AD18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90720" y="21337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a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0AB-DB9B-4030-906B-E2049105B2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22096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A59E-62E5-4791-8DFF-B54E7D665E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22860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1DF4-42AB-4CA6-A715-6C7B222CE7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11744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A1D-E834-4D4D-9B17-7E3E1BA342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9AC-4F0C-4A9D-B893-0DCC00C844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EA3-72A8-459B-A278-CAAF20D239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8C94-5FBA-4EC8-ABAE-7D8CD5FE93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61B-5FDC-497B-BB8D-64055BC1D0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920-B23B-4D9E-87E9-438CA896AF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A99-36C5-4567-BC52-6CB79EFB72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tting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711-4237-4E99-AFAC-0AFBE40B7D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2D0-04FC-47DC-82AF-27E6C5D360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49E6-B0D2-4D63-8C0A-1B35E69FB5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9051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is about recognizing when it’s useful to use a generalization when describing a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9AB-2054-40AB-BA86-A831B0E4DC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the closing as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81C8-1340-4350-A16F-3122DF689C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A65-C578-4FF8-A8FB-468F5F931E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066680" y="99072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D624-4E70-4653-A89E-13C8668874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066680" y="990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000-E540-40E7-94AA-135F4EC9B1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25146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these goals and talk about how to focus them to relate more explicitly to one or more of the big ideas. To do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D43D-4727-4C04-9C3F-1DB9E6F295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43000" y="22860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least 2 new colleagues to try to reshape/refocus at least two of the goals. Be ready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A93-9F3E-4D46-B150-CFD94717C0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One of you begins and asks the next pers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764-E64D-4F0A-BB5B-3E62A0F45A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182880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0E6-3BC2-422C-84CC-4000AEFCB4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18288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them in the appropriate sp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B38-2A14-4A66-81F0-DED9A403FD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DD45-E6AE-48B9-893A-12A12163A5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loud Callout 9"/>
          <p:cNvSpPr/>
          <p:nvPr/>
        </p:nvSpPr>
        <p:spPr>
          <a:xfrm>
            <a:off x="838080" y="160020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loud Callout 8"/>
          <p:cNvSpPr/>
          <p:nvPr/>
        </p:nvSpPr>
        <p:spPr>
          <a:xfrm>
            <a:off x="5715000" y="15238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2C52-9CEB-4AB9-A0B6-3F2AF9671C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867280" y="18288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pecific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523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038480" y="373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3341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olidating (and other)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11"/>
          <p:cNvCxnSpPr/>
          <p:nvPr/>
        </p:nvCxnSpPr>
        <p:spPr>
          <a:xfrm>
            <a:off x="3885120" y="2971800"/>
            <a:ext cx="68652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0" name="Straight Arrow Connector 15"/>
          <p:cNvCxnSpPr/>
          <p:nvPr/>
        </p:nvCxnSpPr>
        <p:spPr>
          <a:xfrm>
            <a:off x="4876920" y="4419720"/>
            <a:ext cx="457920" cy="7848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1" name="Straight Arrow Connector 17"/>
          <p:cNvCxnSpPr/>
          <p:nvPr/>
        </p:nvCxnSpPr>
        <p:spPr>
          <a:xfrm flipH="1">
            <a:off x="5257080" y="3123720"/>
            <a:ext cx="686520" cy="762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66680" y="236232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6E6-CC9C-4D53-B784-A71629F941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66680" y="23623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r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580F-1838-4DBC-A2B9-8FC06AB673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66680" y="236232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1F39-3032-4A42-8925-2734EE2386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43000" y="16765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ng problems– impact on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467E-4B98-4C7E-8354-BF701F4FF0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2046-CB75-4ABA-8229-3E166B873C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BFDA-2662-4DBE-9371-7C8BDE1CA6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7D3-66D5-4AEB-A4A4-44FCAA4A73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833-33E0-4C7B-849E-B9FAF54519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47A-08A6-4AF9-BD0D-342248DBE0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066680" y="182880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8584-052D-4496-A198-F5CEFDF7D2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n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goals you decided up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question might you ask at the end of the problem discussion to get at that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31A8-4B01-4685-A24B-CDCFE22C37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your thoughts with another p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you surprised, or not, at the different directions the other pair t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D3C8-CE0B-464F-9231-D49FA4DDF7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66680" y="18288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a partner, share a problem your students have struggled with in the past and explain the strugg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9B67-BAC3-434D-84DD-3BF151DE1A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066680" y="18288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partner can help you think about an appropriate lesson goal to get at this iss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you can frame a question to get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89E-61F4-4CC1-9CFD-D1201B0766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lleague suggests s/he just doesn’t have the time to anticipate student problems; s/he’ll just deal with them as they ar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59D5-8A32-434E-B126-C162750284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play with a partner. Play critical friend and convince the person otherw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erse ro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21CF-3EBA-4516-84D2-C0D55A1B6E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fferentia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focus in our next few sessions on ways to differentiate instruction (not just differentiate practic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2314-C686-4491-8852-B312CE357A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– that person gets the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DA6-BBBB-4AAA-8C95-BD35A8217E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al approaches of offering additional tools or scaffolding by presenting problems in bits, etc. is only one way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A90F-E369-4A28-B572-6A971C8CA4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837-3BAF-4B9D-9BAE-6C0AD0F29F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3DF7-A5D3-4BC3-A92A-C549B4E933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4BC9-C842-47D6-BCEC-C56B947AB0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0F28-E343-4344-AC42-A12F340071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5A61-6A3B-4C50-8507-08C0C21F03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B84-8775-4C7E-95F7-A06894902B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with a particular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801-F94B-4CAF-94CC-F0C1FE949D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BBB-C569-46ED-8B43-5893E5D291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7D2-1253-46E3-91E3-A7B9DD4BF0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433-58F4-4111-BC1F-0303FEBCCC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the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3E1-0555-40C2-92EB-704187D106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to com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be doing lots more of this in the next couple of 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51F4-F406-4B2D-9F93-D84754AF7D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19320" y="21495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9E9-9099-4466-9D9F-744C188C68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DBC-C57E-459F-9988-6E5747EC8A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AE02-D448-465A-9692-7F63EBC361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24:36Z</dcterms:created>
  <dc:creator>PSteele</dc:creator>
  <dc:description/>
  <dc:language>en-US</dc:language>
  <cp:lastModifiedBy>Marian Small</cp:lastModifiedBy>
  <dcterms:modified xsi:type="dcterms:W3CDTF">2009-07-31T18:20:49Z</dcterms:modified>
  <cp:revision>220</cp:revision>
  <dc:subject/>
  <dc:title>Slide 1</dc:title>
</cp:coreProperties>
</file>